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701FF-1E81-4C9B-BE70-C5F869200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8A6A7-210F-40FC-B27B-0757ABED2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A70DC-AC2F-4A2E-91C3-2E532584C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C56B8-ED0B-452A-8BD4-C62B01BA3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28739-03AB-4EA5-8604-1105E75B1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82D03-A1D1-4487-8160-DBA2103C0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9E6D7-1718-4DD3-A294-B27D42B85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467BD-6AF9-4296-87FE-7E28B62B0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A5088-730E-495E-AC66-E62C581CF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D8B78-EB4E-4ECF-9C7F-2DD7D3CB0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8AE6D-9A6D-44CE-BB10-14EB9A26A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C87CA-8E7E-4A58-AF65-F4F1C6EA7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1E5E-A198-4504-A86E-5FF1BAED9DD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flipH="1" flipV="1">
            <a:off x="7696080" y="0"/>
            <a:ext cx="1447920" cy="1447920"/>
          </a:xfrm>
          <a:prstGeom prst="rtTriangle">
            <a:avLst/>
          </a:prstGeom>
          <a:solidFill>
            <a:srgbClr val="bf2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4360" y="7617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Inner Odyssey: a travellers perspective</a:t>
            </a:r>
            <a:endParaRPr b="1" lang="en-US" sz="4000" spc="-1" strike="noStrike">
              <a:solidFill>
                <a:srgbClr val="000000"/>
              </a:solidFill>
              <a:latin typeface="Arial"/>
            </a:endParaRPr>
          </a:p>
        </p:txBody>
      </p:sp>
      <p:sp>
        <p:nvSpPr>
          <p:cNvPr id="43" name="PlaceHolder 2"/>
          <p:cNvSpPr>
            <a:spLocks noGrp="1"/>
          </p:cNvSpPr>
          <p:nvPr>
            <p:ph type="subTitle"/>
          </p:nvPr>
        </p:nvSpPr>
        <p:spPr>
          <a:xfrm>
            <a:off x="685440" y="2874960"/>
            <a:ext cx="7791480" cy="175248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fessor Bob Garvey</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oaching and Mentoring Research Unit</a:t>
            </a:r>
            <a:endParaRPr b="0" lang="en-US" sz="3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garvey@shu.ac.uk</a:t>
            </a:r>
            <a:endParaRPr b="0" lang="en-US" sz="2400" spc="-1" strike="noStrike">
              <a:solidFill>
                <a:srgbClr val="000000"/>
              </a:solidFill>
              <a:latin typeface="Arial"/>
            </a:endParaRPr>
          </a:p>
        </p:txBody>
      </p:sp>
      <p:sp>
        <p:nvSpPr>
          <p:cNvPr id="44" name=""/>
          <p:cNvSpPr/>
          <p:nvPr/>
        </p:nvSpPr>
        <p:spPr>
          <a:xfrm>
            <a:off x="0" y="4724280"/>
            <a:ext cx="6477120" cy="2133720"/>
          </a:xfrm>
          <a:custGeom>
            <a:avLst/>
            <a:gdLst/>
            <a:ahLst/>
            <a:rect l="l" t="t" r="r" b="b"/>
            <a:pathLst>
              <a:path w="4080" h="1344">
                <a:moveTo>
                  <a:pt x="3168" y="0"/>
                </a:moveTo>
                <a:lnTo>
                  <a:pt x="4080" y="912"/>
                </a:lnTo>
                <a:lnTo>
                  <a:pt x="4080" y="1344"/>
                </a:lnTo>
                <a:lnTo>
                  <a:pt x="0" y="1344"/>
                </a:lnTo>
                <a:lnTo>
                  <a:pt x="0" y="0"/>
                </a:lnTo>
                <a:lnTo>
                  <a:pt x="3168" y="0"/>
                </a:lnTo>
                <a:close/>
              </a:path>
            </a:pathLst>
          </a:custGeom>
          <a:solidFill>
            <a:srgbClr val="bf2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1"/>
          <a:stretch/>
        </p:blipFill>
        <p:spPr>
          <a:xfrm>
            <a:off x="380880" y="4842000"/>
            <a:ext cx="4191120" cy="186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Inner Odyssey</a:t>
            </a:r>
            <a:endParaRPr b="1"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DTV mento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oss functional, inter-disciplinary can work</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can learn from difference and divers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can support each 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can make things happen if we take control of the things we can control</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ation in the face of political chan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nefits of Mentoring</a:t>
            </a:r>
            <a:endParaRPr b="1"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ee related benefits - 4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or related benefits - 33%</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sational related benefits - 2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verall Benefits for Mentees</a:t>
            </a:r>
            <a:endParaRPr b="1"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performance and productiv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er opportunity and advance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knowledge and skil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confidence and well-be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verall Benefits for Mentors</a:t>
            </a:r>
            <a:endParaRPr b="1"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satisfaction, loyalty and awarene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knowledge and skil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verall Benefits for the Organisation</a:t>
            </a:r>
            <a:endParaRPr b="1"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ff reten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communic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morale, motiv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relationships (reduced conflic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knowledge exchange and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re Conditions</a:t>
            </a:r>
            <a:endParaRPr b="1"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oluntarism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aining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ngoing support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tching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stablishing reviewable groundrules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n going review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hose agend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valuation and monito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Inner Odyssey</a:t>
            </a:r>
            <a:endParaRPr b="1"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ntoring promises great things for patient care, NHS performance and skills develop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ntoring needn’t cost the earth</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ation and belief in its value and import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can convince the cynical</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ntoring is not that hard to engage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lue can be demonstr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ople who work in the NHS care deeply about its progress and have authentic insigh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a:t>
            </a:r>
            <a:r>
              <a:rPr b="1" lang="en-US" sz="4000" spc="-1" strike="noStrike">
                <a:solidFill>
                  <a:srgbClr val="000000"/>
                </a:solidFill>
                <a:latin typeface="Arial"/>
              </a:rPr>
              <a:t>Inner Odyssey</a:t>
            </a:r>
            <a:endParaRPr b="1"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ry to think of what happened to you which was important and led to your sitting, sitting here in this chair, on this very day, among these people.  What happened? What brought you here?  You’ve got to know this.  That’s the starting point……’ </a:t>
            </a:r>
            <a:r>
              <a:rPr b="0" lang="en-GB" sz="1800" spc="-1" strike="noStrike">
                <a:solidFill>
                  <a:srgbClr val="000000"/>
                </a:solidFill>
                <a:latin typeface="Arial"/>
              </a:rPr>
              <a:t>(K.Kieslowski, 1993:3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Inner Odyssey</a:t>
            </a:r>
            <a:endParaRPr b="1"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are all travellers on a journey of development.  There are many highs and many lows and we arrive at the beginning and nothing has changed but we understanding it all very differently. </a:t>
            </a:r>
            <a:r>
              <a:rPr b="0" lang="en-GB" sz="1800" spc="-1" strike="noStrike">
                <a:solidFill>
                  <a:srgbClr val="000000"/>
                </a:solidFill>
                <a:latin typeface="Arial"/>
              </a:rPr>
              <a:t>(after Dalo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nefits of Mentoring</a:t>
            </a:r>
            <a:endParaRPr b="1"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Unicode MS"/>
              </a:rPr>
              <a:t>Mentoring is a learning and developmental relationship between two people.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It depends on essential human qualities such as commitment, authenticity, trust, integrity and honesty.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It involves the skills of listening, questioning, challenge and support</a:t>
            </a:r>
            <a:r>
              <a:rPr b="0" i="1" lang="en-US" sz="2800" spc="-1" strike="noStrike">
                <a:solidFill>
                  <a:srgbClr val="000000"/>
                </a:solidFill>
                <a:latin typeface="Arial Unicode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Inner Odyssey</a:t>
            </a:r>
            <a:endParaRPr b="1"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licy Research</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tional Blood and Transplant Service</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rt Patient Mentoring</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en Road</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DTV capability build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Inner Odyssey</a:t>
            </a:r>
            <a:endParaRPr b="1"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framework for mentoring in NHS…</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eat things are happening where there is the will </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ations are important and necessary – no one best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and support necessary</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oluntarism necessary</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ching process necessary</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tuality is a common outcome</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undrules are importa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Inner Odyssey</a:t>
            </a:r>
            <a:endParaRPr b="1"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BSDS…</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kills focus is helpful and practical</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ed practice is important</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PD of the co-ordinators is important and helpful</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ithful to the concept in the face of 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Inner Odyssey</a:t>
            </a:r>
            <a:endParaRPr b="1"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pert patient mentoring…</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wer inversion is challenging and interesting and can work</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ation in the face of life…</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ght at the end of a tunnel…</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formational insights and surpr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Inner Odyssey</a:t>
            </a:r>
            <a:endParaRPr b="1"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pen Road…</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matters and it helps</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ativity</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young are our future </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can all learn from each ot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0T08:11:28Z</dcterms:created>
  <dc:creator>Learning &amp; IT Services</dc:creator>
  <dc:description/>
  <dc:language>en-US</dc:language>
  <cp:lastModifiedBy>jonesas</cp:lastModifiedBy>
  <dcterms:modified xsi:type="dcterms:W3CDTF">2007-10-30T13:01:17Z</dcterms:modified>
  <cp:revision>20</cp:revision>
  <dc:subject/>
  <dc:title>Returning to Lear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